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E01-6520-486E-8707-25F5AA50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8F48-12C8-4FFA-A3BB-046F603E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AD5-AB71-4D69-BD6A-23F5DB39D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B91-44A3-4960-81EE-12941C55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2A9-A017-4FC4-9587-1ED7F197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D831-E071-4072-A3A8-C34E5FA7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A39B-42AA-4463-94CE-5F391FC3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08AD-C8D3-495D-90B1-07871298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6EBF-1E1A-4EE5-ACB6-956E1770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A3EB-5507-4FB2-B2FD-D2D95BBD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B76B-9DF8-4F66-A13A-B71A1439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A3F-9C70-456B-BF35-301DCC8C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CE18-07A3-4244-90FA-FB96DF933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9200" y="58680"/>
            <a:ext cx="932832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800"/>
            </a:br>
            <a:br>
              <a:rPr sz="4800"/>
            </a:b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Our Goals for Today:</a:t>
            </a:r>
            <a:br>
              <a:rPr sz="4800"/>
            </a:b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1480" y="2590560"/>
            <a:ext cx="807696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nish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odeling of Step One in Process of Unit Planning, Assign Our Culminating Project/Performance Task, Complete Process for Step One For Your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7600" y="294840"/>
            <a:ext cx="9664920" cy="19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t Purpose and Identify Desired Results:  First Step in Unit Planning Process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7600" y="1834920"/>
            <a:ext cx="966492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One:  Browse through Curriculum Map and Standards for BSD 9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Language Arts.  What do we not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Two:  Consider Q3 unit (no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le notable Nouns and Adjectives (stated or implied Big Id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a box around notable Verbs (performance task/culminating project id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Three:  Look at the instructional and performance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nes are addres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Four:  Choose the “Core Tasks” for the unit.  Remember no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on too many. (We Chose  Repeat Step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Five:  Brainstorm Essential Question Ideas (see UBD ch. 4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helm p.49-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Six:  Test against checklist (Wilhelm p.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Seven:  Brainstorm possible performance tasks/culmina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(Wilhelm p. 6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uns and Adjectives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g Ideas (Essential Q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41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2200320"/>
            <a:ext cx="42418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war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es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cri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 tra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rbs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Task/Culminating Project Id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41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and Contr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5920" y="2200320"/>
            <a:ext cx="42418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t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s 5 and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Five:  Brainstorm at Least three Essential Question Ideas (see UBD ch. 4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helm p.49-5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Six:  Test against checklist (Wilhelm p.4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636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sential Question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8636040" cy="57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you tell when or if prejudice is getting in the way of making the right deci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prejudice just about race or are there other kin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prejudice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society’s social implications impact prejudi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we stand to lose when we participate in a societal standard we know is wro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point of view affect how stories are told?*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it matter who tells the story?  Whose story gets to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ever okay to be dishone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ll people deserve to be treated the same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cour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prejudice guide people’s ac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akes a family?*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636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8636040" cy="57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Seven:  Brainstorm possible performance tasks/culminat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(UBD chapter 7 and Wilhelm p. 6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V video that addresses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write a newspaper article that explains the tr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character inter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alk show with character inter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write a play of the trial, write an explanation of why they wrote what they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ick a section of the book and retell from a different point of view, justify why do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7600" y="294840"/>
            <a:ext cx="9664920" cy="19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t Purpose and Identify Desired Results:  First Step in Unit Planning Process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7600" y="1834920"/>
            <a:ext cx="966492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One:  Look at the Curriculum Map for the unit you will use for the Annotated Unit Plan Portfol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le notable Nouns and Adjectives (stated or implied Big Ide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t a box around notable Verbs (performance task/culminating project ide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Three:  Look at the instructional and performance objec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ones are addresse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Four:  From the instructional and performance objectives (standards)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ose the “Core Tasks” for the unit.  Remember not t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on to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. (We Chose   Repeat Step Tw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Five:  Brainstorm Essential Question Ideas (see UBD ch. 4 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helm p.49-5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Six:  Test against checklist (Wilhelm p.4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Seven:  Brainstorm possible performance tasks/culminating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Wilhelm p. 6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ere We Are Headed Nex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fer process to planning for your u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dentify skills necessary for completing performance task and acceptable evidence of understan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Backwards Plan/Plan Learning Experiences and Instru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BSD</cp:lastModifiedBy>
  <dcterms:modified xsi:type="dcterms:W3CDTF">2011-02-11T14:40:14Z</dcterms:modified>
  <cp:revision>10</cp:revision>
  <dc:subject/>
  <dc:title>PowerPoint Presentation</dc:title>
</cp:coreProperties>
</file>